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F9AD-8752-4DD1-AF8C-580E884D7D6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NCENT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A7B-0EB3-4BEF-A7DD-240524CB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B31-F324-454D-B71E-9A620AF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A6D-FE33-4C47-9D0D-0A97E966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61F-DC48-49E0-8935-99270589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48B-F461-42CC-9B9E-03C2DC1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A4A-93D4-47AA-B793-FFCEF98C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8F2-93F8-48F2-B021-489CC1B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F63-0B27-49F9-91DB-582FA51B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B7A-D0D0-4C10-9EBE-9778F5A6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CE0-155C-49C1-A5A4-3C918DB5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2B1-A6B7-464F-B5DD-7ECB645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1D2-9B3A-4111-B312-05D457A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9FF4-13C6-453A-978E-9CC1CC4295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Comic Sans MS"/>
              </a:rPr>
              <a:t>    </a:t>
            </a:r>
            <a:r>
              <a:rPr b="0" lang="it-IT" sz="1800" spc="-1" strike="noStrike">
                <a:solidFill>
                  <a:srgbClr val="00cc66"/>
                </a:solidFill>
                <a:latin typeface="Comic Sans MS"/>
              </a:rPr>
              <a:t>Lo studio non inizia nel momento in cui a casa apri il libro, ma nel momento stesso in cui     l’insegnante spiega la le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66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00cc66"/>
                </a:solidFill>
                <a:latin typeface="Comic Sans MS"/>
              </a:rPr>
              <a:t>Se sfrutti bene questo tempo, hai già svolto il 50 % del tuo lavor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304920"/>
            <a:ext cx="7467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 STUDIO INIZIA A SCUOL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E03254_" descr=""/>
          <p:cNvPicPr/>
          <p:nvPr/>
        </p:nvPicPr>
        <p:blipFill>
          <a:blip r:embed="rId1"/>
          <a:stretch/>
        </p:blipFill>
        <p:spPr>
          <a:xfrm>
            <a:off x="685800" y="2320920"/>
            <a:ext cx="3809880" cy="34354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5335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9907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768-2C55-43D8-92CA-2C023CA2B1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762120"/>
            <a:ext cx="6934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Per rendere una lezione in classe      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EFFIC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è necess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429000"/>
            <a:ext cx="5029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°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SCOL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° PARTECIPARE  AT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° PRENDERE APPU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049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8580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E3A-A655-4B7E-8D58-8C68032F7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057400" y="685800"/>
            <a:ext cx="4572000" cy="7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SCOLT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447920"/>
            <a:ext cx="708660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cc"/>
                </a:solidFill>
                <a:latin typeface="Comic Sans MS"/>
              </a:rPr>
              <a:t>E’ indispensabile ascoltare, ma non è facile saperlo fare davv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Comic Sans MS"/>
              </a:rPr>
              <a:t>La </a:t>
            </a:r>
            <a:r>
              <a:rPr b="0" lang="it-IT" sz="2000" spc="-1" strike="noStrike">
                <a:solidFill>
                  <a:srgbClr val="ff00ff"/>
                </a:solidFill>
                <a:latin typeface="Comic Sans MS"/>
              </a:rPr>
              <a:t>curva dell’attenzione</a:t>
            </a:r>
            <a:r>
              <a:rPr b="0" lang="it-IT" sz="2000" spc="-1" strike="noStrike">
                <a:solidFill>
                  <a:srgbClr val="0066cc"/>
                </a:solidFill>
                <a:latin typeface="Comic Sans MS"/>
              </a:rPr>
              <a:t> è di breve dura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Comic Sans MS"/>
              </a:rPr>
              <a:t>si distende in un tempo di 30-40 min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Comic Sans MS"/>
              </a:rPr>
              <a:t>con punte massime che vanno dai 5 ai 20 minu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80988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’ però poss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UMENTARE LA PROPRIA CAPA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I ATTENZIONE E CONCENTRAZION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ttraverso un costante alle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095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MPARIAMO AD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685800" y="624852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9181"/>
                </a:moveTo>
                <a:lnTo>
                  <a:pt x="17806" y="16187"/>
                </a:lnTo>
                <a:lnTo>
                  <a:pt x="3794" y="231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304920" cy="4334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33440"/>
              <a:gd name="textAreaBottom" fmla="*/ 414000 h 4334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3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3"/>
                </a:lnTo>
                <a:lnTo>
                  <a:pt x="20200" y="29293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3"/>
                </a:lnTo>
                <a:close/>
              </a:path>
              <a:path fill="darken" w="21600" h="30693">
                <a:moveTo>
                  <a:pt x="3794" y="15347"/>
                </a:moveTo>
                <a:lnTo>
                  <a:pt x="17806" y="8340"/>
                </a:lnTo>
                <a:lnTo>
                  <a:pt x="17806" y="223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ABB-F6F3-48D2-92F6-299A359652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304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IMPARARE AD ASCOLTAR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990720"/>
            <a:ext cx="76960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Devi predisporti all’asco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ISIC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mettiti comodo sulla s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assumi una postura cor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prepara il materiale neces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MENTAL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elimina pensieri che potrebbero disturba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-non distrarti con particolari superflui dell’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-se ti accorgi di provare sensazioni troppo intense,</a:t>
            </a: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respira profondamente e cerca di rilassa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867280"/>
            <a:ext cx="8001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MA… ASCOLTARE NON BASTA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DEVI </a:t>
            </a:r>
            <a:r>
              <a:rPr b="0" lang="en-US" sz="2400" spc="-1" strike="noStrike">
                <a:solidFill>
                  <a:srgbClr val="00cc66"/>
                </a:solidFill>
                <a:latin typeface="Comic Sans MS"/>
              </a:rPr>
              <a:t>PARTECIPARE AT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304920" cy="3571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57120"/>
              <a:gd name="textAreaBottom" fmla="*/ 337680 h 357120"/>
            </a:gdLst>
            <a:ahLst/>
            <a:rect l="textAreaLeft" t="textAreaTop" r="textAreaRight" b="textAreaBottom"/>
            <a:pathLst>
              <a:path w="21600" h="25293">
                <a:moveTo>
                  <a:pt x="0" y="0"/>
                </a:moveTo>
                <a:lnTo>
                  <a:pt x="21600" y="0"/>
                </a:lnTo>
                <a:lnTo>
                  <a:pt x="21600" y="25293"/>
                </a:lnTo>
                <a:lnTo>
                  <a:pt x="0" y="25293"/>
                </a:lnTo>
                <a:close/>
              </a:path>
              <a:path fill="lightenLess" w="21600" h="25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3">
                <a:moveTo>
                  <a:pt x="21600" y="0"/>
                </a:moveTo>
                <a:lnTo>
                  <a:pt x="21600" y="25293"/>
                </a:lnTo>
                <a:lnTo>
                  <a:pt x="20200" y="23893"/>
                </a:lnTo>
                <a:lnTo>
                  <a:pt x="20200" y="1400"/>
                </a:lnTo>
                <a:close/>
              </a:path>
              <a:path fill="darkenLess" w="21600" h="25293">
                <a:moveTo>
                  <a:pt x="21600" y="25293"/>
                </a:moveTo>
                <a:lnTo>
                  <a:pt x="0" y="25293"/>
                </a:lnTo>
                <a:lnTo>
                  <a:pt x="1400" y="23893"/>
                </a:lnTo>
                <a:lnTo>
                  <a:pt x="20200" y="23893"/>
                </a:lnTo>
                <a:close/>
              </a:path>
              <a:path fill="lighten" w="21600" h="25293">
                <a:moveTo>
                  <a:pt x="0" y="25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3"/>
                </a:lnTo>
                <a:close/>
              </a:path>
              <a:path fill="darken" w="21600" h="25293">
                <a:moveTo>
                  <a:pt x="3794" y="12647"/>
                </a:moveTo>
                <a:lnTo>
                  <a:pt x="17806" y="5640"/>
                </a:lnTo>
                <a:lnTo>
                  <a:pt x="17806" y="196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2F3-6DB3-4D76-9F39-74136A3BDB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38080" y="685800"/>
            <a:ext cx="7925040" cy="19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ARTECIPARE ATTIVAMEN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096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362320"/>
            <a:ext cx="76201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Per seguire la lezione IN MODO AT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- richiama alla mente le conoscenze che già possiedi riguardo l’argomento: sarà più facile ancorare ad esse gli elementi nuovi che apprender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- poniti mentalmente delle domande circa l’argomento, lasciando libero spazio alla tua curios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- esprimi senza paura all’insegnante dubbi, incertezze, ipotesi, obie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5627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715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E naturalmente…PRENDI APPU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EEB-7EBA-45FD-8B1C-A21092882C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62120" y="762120"/>
            <a:ext cx="74674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RENDERE APPUNT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ff"/>
                </a:solidFill>
                <a:latin typeface="Comic Sans MS"/>
              </a:rPr>
              <a:t>E’ IMPORTANTE PERCH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6668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- impedisce di distra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0481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migliora la comprensione dell’arg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5812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- fissa le informazioni nella memoria e consente di iniziare subito a studiare l’arg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343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- permette a casa, nel ripasso o a distanza di tempo, di riprendere l’argomento avendone subito chiari gli elementi fondamen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105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- consente di confrontare le informazioni con altre fonti, per esempio i libri di t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9356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MA… COME PRENDERE APPUN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S00975_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2895840" cy="132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A4C-B4F5-4397-AD2E-47C900D4E9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80880"/>
            <a:ext cx="7772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COME PRENDERE APPUNTI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17524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li appunti sono ANNOTAZIONI B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20968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Quindi non pretendere di scrivere tutto, ma sforzati di </a:t>
            </a:r>
            <a:r>
              <a:rPr b="0" i="1" lang="en-US" sz="2000" spc="-1" strike="noStrike">
                <a:solidFill>
                  <a:srgbClr val="ff9933"/>
                </a:solidFill>
                <a:latin typeface="Comic Sans MS"/>
              </a:rPr>
              <a:t>cogliere l’essenziale</a:t>
            </a: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 di quanto viene detto, privilegiando le</a:t>
            </a:r>
            <a:r>
              <a:rPr b="0" i="1" lang="en-US" sz="2000" spc="-1" strike="noStrike">
                <a:solidFill>
                  <a:srgbClr val="ff9933"/>
                </a:solidFill>
                <a:latin typeface="Comic Sans MS"/>
              </a:rPr>
              <a:t> parole chiave </a:t>
            </a: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della spieg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429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R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106880"/>
            <a:ext cx="8001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crivi data, materia e titolo della l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scia spazi bianchi per eventuali dubbi, integrazioni, corre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i attenzione al sistema di segnalazione dell’insegnante, cioè alle frasi che sottolineano l’importanza dei conc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a ogni tipo di abbreviazione e simbologia per velocizzare la scri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20C-808F-47FA-8D0C-4ECD444E68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525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ECCO ALCUN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45720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76720" y="228600"/>
            <a:ext cx="38098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TRATEGI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92280"/>
            <a:ext cx="7315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- quando puoi, sostituisci la frase con una parola: </a:t>
            </a:r>
            <a:r>
              <a:rPr b="0" i="1" lang="en-US" sz="1800" spc="-1" strike="noStrike">
                <a:solidFill>
                  <a:srgbClr val="ff0066"/>
                </a:solidFill>
                <a:latin typeface="Comic Sans MS"/>
              </a:rPr>
              <a:t>Era stata </a:t>
            </a:r>
            <a:r>
              <a:rPr b="0" i="1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ff0066"/>
                </a:solidFill>
                <a:latin typeface="Comic Sans MS"/>
              </a:rPr>
              <a:t>organizzata una festa      F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2057400"/>
            <a:ext cx="228600" cy="7632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6880"/>
            <a:ext cx="7467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- se una parola ricorre di frequente, abbreviala, anche solo 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con l’iniziale: </a:t>
            </a:r>
            <a:r>
              <a:rPr b="0" lang="it-IT" sz="1800" spc="-1" strike="noStrike">
                <a:solidFill>
                  <a:srgbClr val="ff0066"/>
                </a:solidFill>
                <a:latin typeface="Comic Sans MS"/>
              </a:rPr>
              <a:t>Manzoni       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3124080"/>
            <a:ext cx="228600" cy="7632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6576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- elimina articoli e preposizioni: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Il Preside comunica l’orario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delle lezioni       Preside comunica orario le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4114800"/>
            <a:ext cx="228600" cy="7632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0"/>
            <a:ext cx="76201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usa i segni di interpun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Comic Sans MS"/>
              </a:rPr>
              <a:t>:  per spiegare qualcosa     ! per cosa importante        ? per un dub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638680"/>
            <a:ext cx="76201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usa abbreviazioni e segni graf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ff0066"/>
                </a:solidFill>
                <a:latin typeface="Comic Sans MS"/>
              </a:rPr>
              <a:t>+       -     &lt;      &gt;     X       X’        qlc       qs       cap      pag        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536-04DF-4C8B-810F-2FFB486D4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449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UNA PROPOS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124080" y="228600"/>
            <a:ext cx="5105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IL METODO CORNELL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95280"/>
            <a:ext cx="84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PRIMA DELLA LEZIONE: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traccia una linea verticale lungo la  pagina a circa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6 cm. dal margine sin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810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DURANTE LA LEZIONE: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prendi appunti normalmente nella  colonna di destra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38280"/>
            <a:ext cx="8381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DOPO LA LEZIONE: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rileggendo gli appunti inserisci le parti  mancanti che ricordi ancora  e  nella colonna di sinistra scrivi le parole  chiave relative al contenuto degli appunti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5120" y="358128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5 FASI...5 ERR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267080"/>
            <a:ext cx="83059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GISTRA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le informazioni importanti durante la l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IDUCI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le informazioni in parole chiave riassumendo il conten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ICOSTRUISCI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il contenuto, tenuto coperto, attraverso la parole  chi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IFLETTI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sul contenuto, confrontandolo con le tue idee e valutand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IGUARDA/RIPASSA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in modo attivo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attraverso le parole chi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325-419F-4D94-8DCA-B6CEE6369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3T12:33:31Z</dcterms:created>
  <dc:creator>Generoso</dc:creator>
  <dc:description/>
  <dc:language>en-US</dc:language>
  <cp:lastModifiedBy>Geom. Pierino Barzaghi</cp:lastModifiedBy>
  <dcterms:modified xsi:type="dcterms:W3CDTF">2002-12-14T17:53:13Z</dcterms:modified>
  <cp:revision>11</cp:revision>
  <dc:subject/>
  <dc:title>Presentazione di PowerPoint</dc:title>
</cp:coreProperties>
</file>